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71800" y="-36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923400" y="749160"/>
            <a:ext cx="4986360" cy="374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4360" y="4739760"/>
            <a:ext cx="546552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0" y="947844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71800" y="947844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8CD5A-1721-4043-A361-F156F3A241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1D377-2C39-4EF0-9AB7-DE6C44CE3DFE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4360" y="4739760"/>
            <a:ext cx="54655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00CA0-C70B-4DC2-8155-ED578046584F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4360" y="4739760"/>
            <a:ext cx="54655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8A51A-E8B6-46C3-A152-CCC2AE059C33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4360" y="4739760"/>
            <a:ext cx="54655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743EE-396E-42B4-842B-BC05BAAB171C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4360" y="4739760"/>
            <a:ext cx="54655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FB828-2692-4B50-B51F-353487627F9A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4360" y="4739760"/>
            <a:ext cx="54655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97E24-AC47-4E38-BF57-9FEA0401C156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4360" y="4739760"/>
            <a:ext cx="54655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6E978-475A-4754-9514-8B1A777B0605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4360" y="4739760"/>
            <a:ext cx="54655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6FAA5-E90D-47A8-A41E-0A9963D2FA66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4360" y="4739760"/>
            <a:ext cx="54655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822BB-B365-4B6C-865C-B594327255D5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4360" y="4739760"/>
            <a:ext cx="54655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D9B6E-198F-4893-976F-3B8A15752705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4360" y="4739760"/>
            <a:ext cx="54655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74A69-4D6C-45DF-8DE4-06B7F325DF05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4360" y="4739760"/>
            <a:ext cx="54655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F9EFA-626C-427F-B62A-763EAA5EB27D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4360" y="4739760"/>
            <a:ext cx="54655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3896-DE94-404F-9A57-8B330BEFB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6017-CE24-472A-A7F5-75E26A8D2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2088-1A10-41D5-BD73-5C7CA6159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AC42-6DAA-4076-B52A-35657D5CA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F6A4D-5C83-4E30-9E59-6E379E2E7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0FAC3-FAEA-4B42-922E-E28367900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708DA-D823-4C1E-A22D-C4E60870D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28C9E-C311-4E5D-882B-84080449A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4CDE0-36B2-4F80-9560-1162101DA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D95CC-1BBE-422B-952F-125D62227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83815-B77F-407D-846C-41860828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058D-1F9C-4486-B1AD-8D5F4E5CF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0DD60-D5FC-46F1-8EA6-E35A326D4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05F45-988E-407B-A451-41C1CBBA9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D8DCA-399B-44B9-B64F-721E5122C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A3670-8834-42A3-8233-67973CBF5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C41C9-6A0B-4010-8185-517CAED2F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25F4-51B1-459E-A06B-A016D685A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153B-10A7-4EA4-AC86-44B830EBB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0039-675D-4753-9717-00F75F172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67C0-8734-46FA-AC04-23C531A80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69D8-3FBA-4E9B-8104-8B449827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7E3E-5F63-48DF-8ED6-D76F29715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0794-ADFD-4D0E-A298-01CCAF0A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4430E-E91A-422B-BE18-8755BB30AE8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EDD58-E858-45E8-A7CB-FFEC6737E7A4}" type="slidenum">
              <a:rPr b="0" lang="ru-RU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Bookman Old Style"/>
              </a:rPr>
              <a:t>Итоговая сессия Ученого совета РГГМУ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Bookman Old Style"/>
              </a:rPr>
              <a:t>25-26 </a:t>
            </a:r>
            <a:r>
              <a:rPr b="1" lang="ru-RU" sz="3600" spc="-1" strike="noStrike">
                <a:solidFill>
                  <a:srgbClr val="ff3300"/>
                </a:solidFill>
                <a:latin typeface="Bookman Old Style"/>
              </a:rPr>
              <a:t>января 20</a:t>
            </a:r>
            <a:r>
              <a:rPr b="1" lang="en-US" sz="3600" spc="-1" strike="noStrike">
                <a:solidFill>
                  <a:srgbClr val="ff3300"/>
                </a:solidFill>
                <a:latin typeface="Bookman Old Style"/>
              </a:rPr>
              <a:t>11</a:t>
            </a:r>
            <a:r>
              <a:rPr b="1" lang="ru-RU" sz="3600" spc="-1" strike="noStrike">
                <a:solidFill>
                  <a:srgbClr val="ff3300"/>
                </a:solidFill>
                <a:latin typeface="Bookman Old Style"/>
              </a:rPr>
              <a:t> года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569080" cy="692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Bookman Old Style"/>
              </a:rPr>
              <a:t>Сведения о НИР </a:t>
            </a:r>
            <a:r>
              <a:rPr b="1" lang="ru-RU" sz="2400" spc="-1" strike="noStrike">
                <a:solidFill>
                  <a:srgbClr val="ff3300"/>
                </a:solidFill>
                <a:latin typeface="Bookman Old Style"/>
              </a:rPr>
              <a:t>по кафедрам / подразделениям РГГМУ</a:t>
            </a:r>
            <a:r>
              <a:rPr b="1" lang="ru-RU" sz="2400" spc="-1" strike="noStrike">
                <a:solidFill>
                  <a:srgbClr val="ccecff"/>
                </a:solidFill>
                <a:latin typeface="Bookman Old Style"/>
              </a:rPr>
              <a:t> в 2010 году (часть 2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179280" y="712800"/>
          <a:ext cx="8785440" cy="5505480"/>
        </p:xfrm>
        <a:graphic>
          <a:graphicData uri="http://schemas.openxmlformats.org/drawingml/2006/table">
            <a:tbl>
              <a:tblPr/>
              <a:tblGrid>
                <a:gridCol w="2346480"/>
                <a:gridCol w="3125880"/>
                <a:gridCol w="1309680"/>
                <a:gridCol w="2003400"/>
              </a:tblGrid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Факультет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Кафедра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Кол-во тем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Объем, тыс. руб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1284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Экологии и физики природной среды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Прикладной экологи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525,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Физик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Математик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 927,7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1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Химии природной среды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14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Экологи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7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4 082,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1284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Экономический и социально-гуманитарный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Экономики и менеджмента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00,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Экономики предприятия и учетных систем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570,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Социально-гуманитарных наук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00,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1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Прикладной информатик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1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Связей с общественностью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НИС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40 211,6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В т.ч.: - Морской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           </a:t>
                      </a: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институт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80,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           </a:t>
                      </a: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 ИГЭ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7 435,7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120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142 004,2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Bookman Old Style"/>
              </a:rPr>
              <a:t>Участие в выставках и конференциях в 2010 году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79280" y="2133720"/>
            <a:ext cx="8786880" cy="355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Bookman Old Style"/>
              </a:rPr>
              <a:t>Выставки</a:t>
            </a:r>
            <a:r>
              <a:rPr b="1" lang="ru-RU" sz="1600" spc="-1" strike="noStrike">
                <a:solidFill>
                  <a:srgbClr val="eaeaea"/>
                </a:solidFill>
                <a:latin typeface="Bookman Old Style"/>
              </a:rPr>
              <a:t>, всего – </a:t>
            </a:r>
            <a:r>
              <a:rPr b="1" lang="en-US" sz="1600" spc="-1" strike="noStrike">
                <a:solidFill>
                  <a:srgbClr val="eaeaea"/>
                </a:solidFill>
                <a:latin typeface="Bookman Old Style"/>
              </a:rPr>
              <a:t>12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Bookman Old Style"/>
              </a:rPr>
              <a:t> </a:t>
            </a:r>
            <a:r>
              <a:rPr b="0" lang="ru-RU" sz="1600" spc="-1" strike="noStrike">
                <a:solidFill>
                  <a:srgbClr val="eaeaea"/>
                </a:solidFill>
                <a:latin typeface="Bookman Old Style"/>
              </a:rPr>
              <a:t>в том числе   международные </a:t>
            </a:r>
            <a:r>
              <a:rPr b="0" lang="en-US" sz="1600" spc="-1" strike="noStrike">
                <a:solidFill>
                  <a:srgbClr val="eaeaea"/>
                </a:solidFill>
                <a:latin typeface="Bookman Old Style"/>
              </a:rPr>
              <a:t>- 8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Bookman Old Style"/>
              </a:rPr>
              <a:t>Экспонаты</a:t>
            </a:r>
            <a:r>
              <a:rPr b="1" lang="ru-RU" sz="1600" spc="-1" strike="noStrike">
                <a:solidFill>
                  <a:srgbClr val="eaeaea"/>
                </a:solidFill>
                <a:latin typeface="Bookman Old Style"/>
              </a:rPr>
              <a:t>, представленные на выставках </a:t>
            </a:r>
            <a:r>
              <a:rPr b="1" lang="en-US" sz="1600" spc="-1" strike="noStrike">
                <a:solidFill>
                  <a:srgbClr val="eaeaea"/>
                </a:solidFill>
                <a:latin typeface="Bookman Old Style"/>
              </a:rPr>
              <a:t>- 8</a:t>
            </a:r>
            <a:r>
              <a:rPr b="1" lang="ru-RU" sz="1600" spc="-1" strike="noStrike">
                <a:solidFill>
                  <a:srgbClr val="eaeaea"/>
                </a:solidFill>
                <a:latin typeface="Bookman Old Style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Bookman Old Style"/>
              </a:rPr>
              <a:t>Премии, дипломы, награды</a:t>
            </a:r>
            <a:r>
              <a:rPr b="1" lang="ru-RU" sz="1600" spc="-1" strike="noStrike">
                <a:solidFill>
                  <a:srgbClr val="eaeaea"/>
                </a:solidFill>
                <a:latin typeface="Bookman Old Style"/>
              </a:rPr>
              <a:t> - </a:t>
            </a:r>
            <a:r>
              <a:rPr b="1" lang="en-US" sz="1600" spc="-1" strike="noStrike">
                <a:solidFill>
                  <a:srgbClr val="eaeaea"/>
                </a:solidFill>
                <a:latin typeface="Bookman Old Style"/>
              </a:rPr>
              <a:t>23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Bookman Old Style"/>
              </a:rPr>
              <a:t>Конференции –</a:t>
            </a:r>
            <a:r>
              <a:rPr b="1" lang="ru-RU" sz="1600" spc="-1" strike="noStrike">
                <a:solidFill>
                  <a:srgbClr val="eaeaea"/>
                </a:solidFill>
                <a:latin typeface="Bookman Old Style"/>
              </a:rPr>
              <a:t> 31,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Bookman Old Style"/>
              </a:rPr>
              <a:t>в том числе  на базе вуза -  </a:t>
            </a:r>
            <a:r>
              <a:rPr b="0" lang="en-US" sz="1600" spc="-1" strike="noStrike">
                <a:solidFill>
                  <a:srgbClr val="eaeaea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Bookman Old Style"/>
              </a:rPr>
              <a:t>Количество сотрудников,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Bookman Old Style"/>
              </a:rPr>
              <a:t> </a:t>
            </a:r>
            <a:r>
              <a:rPr b="1" lang="ru-RU" sz="1600" spc="-1" strike="noStrike">
                <a:solidFill>
                  <a:srgbClr val="ff3300"/>
                </a:solidFill>
                <a:latin typeface="Bookman Old Style"/>
              </a:rPr>
              <a:t>выступивших на конференциях с докладами</a:t>
            </a:r>
            <a:r>
              <a:rPr b="1" lang="ru-RU" sz="1600" spc="-1" strike="noStrike">
                <a:solidFill>
                  <a:srgbClr val="eaeaea"/>
                </a:solidFill>
                <a:latin typeface="Bookman Old Style"/>
              </a:rPr>
              <a:t> – </a:t>
            </a:r>
            <a:r>
              <a:rPr b="1" lang="en-US" sz="1600" spc="-1" strike="noStrike">
                <a:solidFill>
                  <a:srgbClr val="eaeaea"/>
                </a:solidFill>
                <a:latin typeface="Bookman Old Style"/>
              </a:rPr>
              <a:t>136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Bookman Old Style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comb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Bookman Old Style"/>
              </a:rPr>
              <a:t>Издательская деятельность в 2010 году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684360" y="836640"/>
          <a:ext cx="7991280" cy="4976640"/>
        </p:xfrm>
        <a:graphic>
          <a:graphicData uri="http://schemas.openxmlformats.org/drawingml/2006/table">
            <a:tbl>
              <a:tblPr/>
              <a:tblGrid>
                <a:gridCol w="5937120"/>
                <a:gridCol w="2054160"/>
              </a:tblGrid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Монографии, всего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13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 из них изданные вузом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3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Количество публикаций в сборниках трудов конференций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в том числе,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9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международных научных конференций, симпозиумов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67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Учебники и учебные пособия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34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Статьи, всего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12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 в зарубежных изданиях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59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 в российских изданиях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53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plus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Bookman Old Style"/>
              </a:rPr>
              <a:t>Пленарное заседание</a:t>
            </a:r>
            <a:br>
              <a:rPr sz="1800"/>
            </a:br>
            <a:r>
              <a:rPr b="1" lang="ru-RU" sz="1600" spc="-1" strike="noStrike">
                <a:solidFill>
                  <a:srgbClr val="ff3300"/>
                </a:solidFill>
                <a:latin typeface="Bookman Old Style"/>
              </a:rPr>
              <a:t>2</a:t>
            </a:r>
            <a:r>
              <a:rPr b="1" lang="en-US" sz="1600" spc="-1" strike="noStrike">
                <a:solidFill>
                  <a:srgbClr val="ff3300"/>
                </a:solidFill>
                <a:latin typeface="Bookman Old Style"/>
              </a:rPr>
              <a:t>5</a:t>
            </a:r>
            <a:r>
              <a:rPr b="1" lang="ru-RU" sz="1600" spc="-1" strike="noStrike">
                <a:solidFill>
                  <a:srgbClr val="ff3300"/>
                </a:solidFill>
                <a:latin typeface="Bookman Old Style"/>
              </a:rPr>
              <a:t> января 20</a:t>
            </a:r>
            <a:r>
              <a:rPr b="1" lang="en-US" sz="1600" spc="-1" strike="noStrike">
                <a:solidFill>
                  <a:srgbClr val="ff3300"/>
                </a:solidFill>
                <a:latin typeface="Bookman Old Style"/>
              </a:rPr>
              <a:t>11</a:t>
            </a:r>
            <a:r>
              <a:rPr b="1" lang="ru-RU" sz="1600" spc="-1" strike="noStrike">
                <a:solidFill>
                  <a:srgbClr val="ff3300"/>
                </a:solidFill>
                <a:latin typeface="Bookman Old Style"/>
              </a:rPr>
              <a:t> г., Актовый зал РГГМУ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ecff"/>
                </a:solidFill>
                <a:latin typeface="Times New Roman"/>
              </a:rPr>
              <a:t>Вступительное слово, ректор, Л.Н. Карлин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ecff"/>
                </a:solidFill>
                <a:latin typeface="Times New Roman"/>
              </a:rPr>
              <a:t>«Научная деятельность университета в 20</a:t>
            </a:r>
            <a:r>
              <a:rPr b="1" lang="en-US" sz="1800" spc="-1" strike="noStrike">
                <a:solidFill>
                  <a:srgbClr val="ccecff"/>
                </a:solidFill>
                <a:latin typeface="Times New Roman"/>
              </a:rPr>
              <a:t>10</a:t>
            </a:r>
            <a:r>
              <a:rPr b="1" lang="ru-RU" sz="1800" spc="-1" strike="noStrike">
                <a:solidFill>
                  <a:srgbClr val="ccecff"/>
                </a:solidFill>
                <a:latin typeface="Times New Roman"/>
              </a:rPr>
              <a:t> году»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ecff"/>
                </a:solidFill>
                <a:latin typeface="Times New Roman"/>
              </a:rPr>
              <a:t>проректор по НР, В.Н. Воробьев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ecff"/>
                </a:solidFill>
                <a:latin typeface="Times New Roman"/>
              </a:rPr>
              <a:t>«Современные изменение климата Санкт-Петербурга в связи с колебаниями атмосферной циркуляции в атлантико-европейском секторе Северного полушария», проф. А.И. Угрюмов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ecff"/>
                </a:solidFill>
                <a:latin typeface="Times New Roman"/>
              </a:rPr>
              <a:t>«Проблемы и методы обеспечения информационной безопасности»,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ecff"/>
                </a:solidFill>
                <a:latin typeface="Times New Roman"/>
              </a:rPr>
              <a:t>проф.  Т.М. Татарников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ecff"/>
                </a:solidFill>
                <a:latin typeface="Times New Roman"/>
              </a:rPr>
              <a:t>«Долгосрочная оценка климатических изменений многолетнего стока Арктической зоны России», докторант Е.В.</a:t>
            </a:r>
            <a:r>
              <a:rPr b="1" lang="en-US" sz="1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ccecff"/>
                </a:solidFill>
                <a:latin typeface="Times New Roman"/>
              </a:rPr>
              <a:t>Гайдуков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ecff"/>
                </a:solidFill>
                <a:latin typeface="Times New Roman"/>
              </a:rPr>
              <a:t>«Оценка экстремальных уровней загрязнения речных вод», проф. Шелутко В.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ecff"/>
                </a:solidFill>
                <a:latin typeface="Times New Roman"/>
              </a:rPr>
              <a:t>«Коммуникации и эффективное партнерство в инновационной сфере», проф. И.П. Фиров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«Некоторые результаты исследования природной среды на основе синергетического анализа данных дистанционного зондирования из Космоса.» доцент Сычев В.И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755640" y="1700280"/>
            <a:ext cx="76327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Bookman Old Style"/>
              </a:rPr>
              <a:t>Научная деятельность</a:t>
            </a:r>
            <a:r>
              <a:rPr b="1" lang="ru-RU" sz="3200" spc="-1" strike="noStrike">
                <a:solidFill>
                  <a:srgbClr val="ccecff"/>
                </a:solidFill>
                <a:latin typeface="Bookman Old Style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Bookman Old Style"/>
              </a:rPr>
              <a:t>Российского государственного гидрометеорологического университет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Bookman Old Style"/>
              </a:rPr>
              <a:t>в 20</a:t>
            </a:r>
            <a:r>
              <a:rPr b="1" lang="en-US" sz="3200" spc="-1" strike="noStrike">
                <a:solidFill>
                  <a:srgbClr val="eaeaea"/>
                </a:solidFill>
                <a:latin typeface="Bookman Old Style"/>
              </a:rPr>
              <a:t>10</a:t>
            </a:r>
            <a:r>
              <a:rPr b="1" lang="ru-RU" sz="3200" spc="-1" strike="noStrike">
                <a:solidFill>
                  <a:srgbClr val="eaeaea"/>
                </a:solidFill>
                <a:latin typeface="Bookman Old Style"/>
              </a:rPr>
              <a:t> году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0" y="364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Bookman Old Style"/>
              </a:rPr>
              <a:t>Основные научные направления </a:t>
            </a:r>
            <a:r>
              <a:rPr b="1" lang="ru-RU" sz="2400" spc="-1" strike="noStrike">
                <a:solidFill>
                  <a:srgbClr val="ff3300"/>
                </a:solidFill>
                <a:latin typeface="Bookman Old Style"/>
              </a:rPr>
              <a:t>РГГМУ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468360" y="549360"/>
          <a:ext cx="8232840" cy="5775120"/>
        </p:xfrm>
        <a:graphic>
          <a:graphicData uri="http://schemas.openxmlformats.org/drawingml/2006/table">
            <a:tbl>
              <a:tblPr/>
              <a:tblGrid>
                <a:gridCol w="441000"/>
                <a:gridCol w="6535800"/>
                <a:gridCol w="1040760"/>
                <a:gridCol w="216000"/>
              </a:tblGrid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№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Название научного направления (научной школы)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Кол-во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НИР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храна окружающей среды, мониторинг, моделирование возникновения и развития природных и техногенных процессов на водных объектах и в атмосфере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1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Теоретические и экспериментальные исследования гидрофизических, гидрохимических и гидробиологических процессов в морях и прибрежных зонах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2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зучение динамики водных ресурсов и качества вод в условиях естественного развития гидрометеорологических процессов с целью создания системы наиболее рационального использования и охраны поверхностных вод суши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9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4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сследования атмосферных процессов и явлений, оценка изменений климата под влиянием естественных и антропогенных факторов в интересах обеспечения народного хозяйства и охраны окружающей среды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2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5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Создание диагностических и прогностических моделей развития природных и техногенных катастрофических ситуаций на водных объектах и в приземном слое атмосферы. 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1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6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Многосенсорные геоинформационные системы дистанционного мониторинга окружающей среды. Технологии сбора, обработки, преобразования и моделирования геоинформации, информационная безопасность в геоинформационных системах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1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7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Экономика и управление народным хозяйством, управление инновациями с учетом природных факторов, экономика природопользования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8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зучение текстовых лексико-грамматических и семантико-синтаксических особенностей подъязыка гидрометеорологии. Исследование научной, информационной и официально-деловой речи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-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20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9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зучение системы комплексного управления прибрежными зонами морей России, устойчивого социально-экономического развития прибрежных территорий, рационального использования природных ресурсов 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074080" cy="74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3300"/>
                </a:solidFill>
                <a:latin typeface="Bookman Old Style"/>
              </a:rPr>
              <a:t>Сводные сведения</a:t>
            </a:r>
            <a:r>
              <a:rPr b="1" lang="ru-RU" sz="2600" spc="-1" strike="noStrike">
                <a:solidFill>
                  <a:srgbClr val="eaeaea"/>
                </a:solidFill>
                <a:latin typeface="Bookman Old Style"/>
              </a:rPr>
              <a:t> о выполнении НИР</a:t>
            </a:r>
            <a:br>
              <a:rPr sz="2600"/>
            </a:br>
            <a:r>
              <a:rPr b="1" lang="ru-RU" sz="2600" spc="-1" strike="noStrike">
                <a:solidFill>
                  <a:srgbClr val="eaeaea"/>
                </a:solidFill>
                <a:latin typeface="Bookman Old Style"/>
              </a:rPr>
              <a:t>в 2009/2010 году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08000" y="1341360"/>
          <a:ext cx="9036000" cy="4389480"/>
        </p:xfrm>
        <a:graphic>
          <a:graphicData uri="http://schemas.openxmlformats.org/drawingml/2006/table">
            <a:tbl>
              <a:tblPr/>
              <a:tblGrid>
                <a:gridCol w="684000"/>
                <a:gridCol w="4040280"/>
                <a:gridCol w="762120"/>
                <a:gridCol w="990720"/>
                <a:gridCol w="1218960"/>
                <a:gridCol w="1339920"/>
              </a:tblGrid>
              <a:tr h="3812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№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Источник финансирования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Количество НИР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Объем, тыс. руб</a:t>
                      </a: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00</a:t>
                      </a:r>
                      <a:r>
                        <a:rPr b="1" lang="en-US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9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0</a:t>
                      </a:r>
                      <a:r>
                        <a:rPr b="1" lang="en-US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009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0</a:t>
                      </a: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.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Средства федерального бюджет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64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82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70 861,3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26 824,7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.1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Министерство образования и науки РФ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49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7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47 220.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04 539,7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.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РФФ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8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 447,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 785,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.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Другие Министерства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4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0 194,1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9 500,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.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Средства Субъектов Федерации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2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6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 037,96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5 786,5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.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Хоздоговорные НИР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4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6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3 941,3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536,9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4.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Зарубежные контракты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9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4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6 269,0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119,7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109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120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93 671,8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142 004,2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AutoShape 448"/>
          <p:cNvSpPr/>
          <p:nvPr/>
        </p:nvSpPr>
        <p:spPr>
          <a:xfrm flipH="1">
            <a:off x="8998920" y="2349360"/>
            <a:ext cx="144360" cy="287640"/>
          </a:xfrm>
          <a:prstGeom prst="upArrow">
            <a:avLst>
              <a:gd name="adj1" fmla="val 50000"/>
              <a:gd name="adj2" fmla="val 49813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AutoShape 451"/>
          <p:cNvSpPr/>
          <p:nvPr/>
        </p:nvSpPr>
        <p:spPr>
          <a:xfrm flipH="1">
            <a:off x="6371640" y="2349360"/>
            <a:ext cx="144360" cy="287640"/>
          </a:xfrm>
          <a:prstGeom prst="upArrow">
            <a:avLst>
              <a:gd name="adj1" fmla="val 50000"/>
              <a:gd name="adj2" fmla="val 49813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AutoShape 488"/>
          <p:cNvSpPr/>
          <p:nvPr/>
        </p:nvSpPr>
        <p:spPr>
          <a:xfrm>
            <a:off x="9001080" y="3357720"/>
            <a:ext cx="142920" cy="287280"/>
          </a:xfrm>
          <a:prstGeom prst="downArrow">
            <a:avLst>
              <a:gd name="adj1" fmla="val 50000"/>
              <a:gd name="adj2" fmla="val 50252"/>
            </a:avLst>
          </a:prstGeom>
          <a:solidFill>
            <a:srgbClr val="ff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AutoShape 587"/>
          <p:cNvSpPr/>
          <p:nvPr/>
        </p:nvSpPr>
        <p:spPr>
          <a:xfrm flipH="1">
            <a:off x="6371640" y="2349360"/>
            <a:ext cx="144360" cy="287640"/>
          </a:xfrm>
          <a:prstGeom prst="upArrow">
            <a:avLst>
              <a:gd name="adj1" fmla="val 50000"/>
              <a:gd name="adj2" fmla="val 49813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AutoShape 672"/>
          <p:cNvSpPr/>
          <p:nvPr/>
        </p:nvSpPr>
        <p:spPr>
          <a:xfrm flipH="1">
            <a:off x="6371640" y="2349360"/>
            <a:ext cx="144360" cy="287640"/>
          </a:xfrm>
          <a:prstGeom prst="upArrow">
            <a:avLst>
              <a:gd name="adj1" fmla="val 50000"/>
              <a:gd name="adj2" fmla="val 49813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AutoShape 673"/>
          <p:cNvSpPr/>
          <p:nvPr/>
        </p:nvSpPr>
        <p:spPr>
          <a:xfrm flipH="1">
            <a:off x="6371640" y="2852640"/>
            <a:ext cx="144360" cy="287280"/>
          </a:xfrm>
          <a:prstGeom prst="upArrow">
            <a:avLst>
              <a:gd name="adj1" fmla="val 50000"/>
              <a:gd name="adj2" fmla="val 49751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AutoShape 674"/>
          <p:cNvSpPr/>
          <p:nvPr/>
        </p:nvSpPr>
        <p:spPr>
          <a:xfrm flipH="1">
            <a:off x="8998920" y="2852640"/>
            <a:ext cx="144360" cy="287280"/>
          </a:xfrm>
          <a:prstGeom prst="upArrow">
            <a:avLst>
              <a:gd name="adj1" fmla="val 50000"/>
              <a:gd name="adj2" fmla="val 49751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AutoShape 675"/>
          <p:cNvSpPr/>
          <p:nvPr/>
        </p:nvSpPr>
        <p:spPr>
          <a:xfrm>
            <a:off x="6370560" y="3357720"/>
            <a:ext cx="146160" cy="287280"/>
          </a:xfrm>
          <a:prstGeom prst="downArrow">
            <a:avLst>
              <a:gd name="adj1" fmla="val 50000"/>
              <a:gd name="adj2" fmla="val 49138"/>
            </a:avLst>
          </a:prstGeom>
          <a:solidFill>
            <a:srgbClr val="ff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AutoShape 678"/>
          <p:cNvSpPr/>
          <p:nvPr/>
        </p:nvSpPr>
        <p:spPr>
          <a:xfrm>
            <a:off x="8999640" y="3789360"/>
            <a:ext cx="144360" cy="287280"/>
          </a:xfrm>
          <a:prstGeom prst="downArrow">
            <a:avLst>
              <a:gd name="adj1" fmla="val 50000"/>
              <a:gd name="adj2" fmla="val 49751"/>
            </a:avLst>
          </a:prstGeom>
          <a:solidFill>
            <a:srgbClr val="ff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AutoShape 679"/>
          <p:cNvSpPr/>
          <p:nvPr/>
        </p:nvSpPr>
        <p:spPr>
          <a:xfrm flipH="1">
            <a:off x="6371640" y="3789360"/>
            <a:ext cx="144360" cy="287280"/>
          </a:xfrm>
          <a:prstGeom prst="upArrow">
            <a:avLst>
              <a:gd name="adj1" fmla="val 50000"/>
              <a:gd name="adj2" fmla="val 49751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AutoShape 680"/>
          <p:cNvSpPr/>
          <p:nvPr/>
        </p:nvSpPr>
        <p:spPr>
          <a:xfrm flipH="1">
            <a:off x="8998920" y="4221000"/>
            <a:ext cx="144360" cy="287640"/>
          </a:xfrm>
          <a:prstGeom prst="upArrow">
            <a:avLst>
              <a:gd name="adj1" fmla="val 50000"/>
              <a:gd name="adj2" fmla="val 49813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AutoShape 681"/>
          <p:cNvSpPr/>
          <p:nvPr/>
        </p:nvSpPr>
        <p:spPr>
          <a:xfrm>
            <a:off x="6372360" y="4653000"/>
            <a:ext cx="145800" cy="287280"/>
          </a:xfrm>
          <a:prstGeom prst="downArrow">
            <a:avLst>
              <a:gd name="adj1" fmla="val 50000"/>
              <a:gd name="adj2" fmla="val 49259"/>
            </a:avLst>
          </a:prstGeom>
          <a:solidFill>
            <a:srgbClr val="ff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AutoShape 682"/>
          <p:cNvSpPr/>
          <p:nvPr/>
        </p:nvSpPr>
        <p:spPr>
          <a:xfrm>
            <a:off x="8997840" y="4653000"/>
            <a:ext cx="146160" cy="287280"/>
          </a:xfrm>
          <a:prstGeom prst="downArrow">
            <a:avLst>
              <a:gd name="adj1" fmla="val 50000"/>
              <a:gd name="adj2" fmla="val 49138"/>
            </a:avLst>
          </a:prstGeom>
          <a:solidFill>
            <a:srgbClr val="ff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AutoShape 683"/>
          <p:cNvSpPr/>
          <p:nvPr/>
        </p:nvSpPr>
        <p:spPr>
          <a:xfrm>
            <a:off x="6372360" y="5013360"/>
            <a:ext cx="145800" cy="287280"/>
          </a:xfrm>
          <a:prstGeom prst="downArrow">
            <a:avLst>
              <a:gd name="adj1" fmla="val 50000"/>
              <a:gd name="adj2" fmla="val 49259"/>
            </a:avLst>
          </a:prstGeom>
          <a:solidFill>
            <a:srgbClr val="ff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AutoShape 684"/>
          <p:cNvSpPr/>
          <p:nvPr/>
        </p:nvSpPr>
        <p:spPr>
          <a:xfrm>
            <a:off x="8997840" y="5013360"/>
            <a:ext cx="146160" cy="287280"/>
          </a:xfrm>
          <a:prstGeom prst="downArrow">
            <a:avLst>
              <a:gd name="adj1" fmla="val 50000"/>
              <a:gd name="adj2" fmla="val 49138"/>
            </a:avLst>
          </a:prstGeom>
          <a:solidFill>
            <a:srgbClr val="ff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AutoShape 687"/>
          <p:cNvSpPr/>
          <p:nvPr/>
        </p:nvSpPr>
        <p:spPr>
          <a:xfrm flipH="1">
            <a:off x="8998920" y="5373720"/>
            <a:ext cx="144360" cy="287280"/>
          </a:xfrm>
          <a:prstGeom prst="upArrow">
            <a:avLst>
              <a:gd name="adj1" fmla="val 50000"/>
              <a:gd name="adj2" fmla="val 49751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AutoShape 688"/>
          <p:cNvSpPr/>
          <p:nvPr/>
        </p:nvSpPr>
        <p:spPr>
          <a:xfrm flipH="1">
            <a:off x="6371640" y="5373720"/>
            <a:ext cx="144360" cy="287280"/>
          </a:xfrm>
          <a:prstGeom prst="upArrow">
            <a:avLst>
              <a:gd name="adj1" fmla="val 50000"/>
              <a:gd name="adj2" fmla="val 49751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AutoShape 796"/>
          <p:cNvSpPr/>
          <p:nvPr/>
        </p:nvSpPr>
        <p:spPr>
          <a:xfrm flipH="1">
            <a:off x="6371640" y="4221000"/>
            <a:ext cx="144360" cy="287640"/>
          </a:xfrm>
          <a:prstGeom prst="upArrow">
            <a:avLst>
              <a:gd name="adj1" fmla="val 50000"/>
              <a:gd name="adj2" fmla="val 49813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7" name=""/>
          <p:cNvGraphicFramePr/>
          <p:nvPr/>
        </p:nvGraphicFramePr>
        <p:xfrm>
          <a:off x="539640" y="333360"/>
          <a:ext cx="8226360" cy="606600"/>
        </p:xfrm>
        <a:graphic>
          <a:graphicData uri="http://schemas.openxmlformats.org/drawingml/2006/table">
            <a:tbl>
              <a:tblPr/>
              <a:tblGrid>
                <a:gridCol w="8226360"/>
              </a:tblGrid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бъемы НИР целевых программ в 2009 – 2010 гг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Object 312"/>
          <p:cNvGraphicFramePr/>
          <p:nvPr/>
        </p:nvGraphicFramePr>
        <p:xfrm>
          <a:off x="752400" y="1649520"/>
          <a:ext cx="8353440" cy="521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9" name="Object 3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00" y="1649520"/>
                    <a:ext cx="8353440" cy="52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90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Bookman Old Style"/>
              </a:rPr>
              <a:t>Распределение тем </a:t>
            </a:r>
            <a:r>
              <a:rPr b="1" lang="ru-RU" sz="2000" spc="-1" strike="noStrike">
                <a:solidFill>
                  <a:srgbClr val="ff3300"/>
                </a:solidFill>
                <a:latin typeface="Bookman Old Style"/>
              </a:rPr>
              <a:t>по факультетам</a:t>
            </a:r>
            <a:r>
              <a:rPr b="1" lang="ru-RU" sz="2000" spc="-1" strike="noStrike">
                <a:solidFill>
                  <a:srgbClr val="eaeaea"/>
                </a:solidFill>
                <a:latin typeface="Bookman Old Style"/>
              </a:rPr>
              <a:t> в 2009 ― 2010 гг.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34920" y="907920"/>
          <a:ext cx="9001080" cy="5616720"/>
        </p:xfrm>
        <a:graphic>
          <a:graphicData uri="http://schemas.openxmlformats.org/drawingml/2006/table">
            <a:tbl>
              <a:tblPr/>
              <a:tblGrid>
                <a:gridCol w="2736720"/>
                <a:gridCol w="1319400"/>
                <a:gridCol w="1525680"/>
                <a:gridCol w="1265040"/>
                <a:gridCol w="2154240"/>
              </a:tblGrid>
              <a:tr h="35568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Факультет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009 год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010 год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0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Кол-во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Объем, тыс. руб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Кол-во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Объем, тыс. руб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Метеорологический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1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6 697,8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1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6 227.8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Гидрологический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7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6 059,4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9 975,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Океанологический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1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7 </a:t>
                      </a: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6</a:t>
                      </a: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81,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65884,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Экологии и физики природной среды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4 309,6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8 535,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Экономический и социально-гуманитарный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640,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170,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НИС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6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3 427,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1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40 211,6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В т.ч.: - Морской              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             </a:t>
                      </a: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институт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7 210,</a:t>
                      </a: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80,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     </a:t>
                      </a: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 ИГЭ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0 775,7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7 635,7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56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109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92 109,6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12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142 004,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2" name="AutoShape 986"/>
          <p:cNvSpPr/>
          <p:nvPr/>
        </p:nvSpPr>
        <p:spPr>
          <a:xfrm>
            <a:off x="6659640" y="2421000"/>
            <a:ext cx="144360" cy="288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AutoShape 994"/>
          <p:cNvSpPr/>
          <p:nvPr/>
        </p:nvSpPr>
        <p:spPr>
          <a:xfrm>
            <a:off x="6659640" y="2781360"/>
            <a:ext cx="144360" cy="360360"/>
          </a:xfrm>
          <a:prstGeom prst="downArrow">
            <a:avLst>
              <a:gd name="adj1" fmla="val 50000"/>
              <a:gd name="adj2" fmla="val 6240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AutoShape 1005"/>
          <p:cNvSpPr/>
          <p:nvPr/>
        </p:nvSpPr>
        <p:spPr>
          <a:xfrm>
            <a:off x="6659640" y="1989000"/>
            <a:ext cx="144360" cy="289080"/>
          </a:xfrm>
          <a:prstGeom prst="upArrow">
            <a:avLst>
              <a:gd name="adj1" fmla="val 50000"/>
              <a:gd name="adj2" fmla="val 50062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AutoShape 1006"/>
          <p:cNvSpPr/>
          <p:nvPr/>
        </p:nvSpPr>
        <p:spPr>
          <a:xfrm>
            <a:off x="8748720" y="2421000"/>
            <a:ext cx="144360" cy="288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AutoShape 1087"/>
          <p:cNvSpPr/>
          <p:nvPr/>
        </p:nvSpPr>
        <p:spPr>
          <a:xfrm>
            <a:off x="8748720" y="2060640"/>
            <a:ext cx="144360" cy="288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AutoShape 1092"/>
          <p:cNvSpPr/>
          <p:nvPr/>
        </p:nvSpPr>
        <p:spPr>
          <a:xfrm>
            <a:off x="6659640" y="3933720"/>
            <a:ext cx="144360" cy="289080"/>
          </a:xfrm>
          <a:prstGeom prst="upArrow">
            <a:avLst>
              <a:gd name="adj1" fmla="val 50000"/>
              <a:gd name="adj2" fmla="val 50062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AutoShape 1095"/>
          <p:cNvSpPr/>
          <p:nvPr/>
        </p:nvSpPr>
        <p:spPr>
          <a:xfrm>
            <a:off x="6659640" y="5013360"/>
            <a:ext cx="144360" cy="360360"/>
          </a:xfrm>
          <a:prstGeom prst="downArrow">
            <a:avLst>
              <a:gd name="adj1" fmla="val 50000"/>
              <a:gd name="adj2" fmla="val 6240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AutoShape 1098"/>
          <p:cNvSpPr/>
          <p:nvPr/>
        </p:nvSpPr>
        <p:spPr>
          <a:xfrm>
            <a:off x="8748720" y="5084640"/>
            <a:ext cx="144360" cy="360360"/>
          </a:xfrm>
          <a:prstGeom prst="downArrow">
            <a:avLst>
              <a:gd name="adj1" fmla="val 50000"/>
              <a:gd name="adj2" fmla="val 6240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AutoShape 1099"/>
          <p:cNvSpPr/>
          <p:nvPr/>
        </p:nvSpPr>
        <p:spPr>
          <a:xfrm>
            <a:off x="6659640" y="6021360"/>
            <a:ext cx="144360" cy="289080"/>
          </a:xfrm>
          <a:prstGeom prst="upArrow">
            <a:avLst>
              <a:gd name="adj1" fmla="val 50000"/>
              <a:gd name="adj2" fmla="val 50062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AutoShape 1100"/>
          <p:cNvSpPr/>
          <p:nvPr/>
        </p:nvSpPr>
        <p:spPr>
          <a:xfrm>
            <a:off x="8748720" y="6021360"/>
            <a:ext cx="144360" cy="289080"/>
          </a:xfrm>
          <a:prstGeom prst="upArrow">
            <a:avLst>
              <a:gd name="adj1" fmla="val 50000"/>
              <a:gd name="adj2" fmla="val 50062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AutoShape 1102"/>
          <p:cNvSpPr/>
          <p:nvPr/>
        </p:nvSpPr>
        <p:spPr>
          <a:xfrm>
            <a:off x="8748720" y="5516640"/>
            <a:ext cx="144360" cy="288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AutoShape 1103"/>
          <p:cNvSpPr/>
          <p:nvPr/>
        </p:nvSpPr>
        <p:spPr>
          <a:xfrm>
            <a:off x="8748720" y="2781360"/>
            <a:ext cx="144360" cy="288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AutoShape 1104"/>
          <p:cNvSpPr/>
          <p:nvPr/>
        </p:nvSpPr>
        <p:spPr>
          <a:xfrm>
            <a:off x="6659640" y="3357720"/>
            <a:ext cx="144360" cy="288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AutoShape 1105"/>
          <p:cNvSpPr/>
          <p:nvPr/>
        </p:nvSpPr>
        <p:spPr>
          <a:xfrm>
            <a:off x="8748720" y="3357720"/>
            <a:ext cx="144360" cy="288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AutoShape 1106"/>
          <p:cNvSpPr/>
          <p:nvPr/>
        </p:nvSpPr>
        <p:spPr>
          <a:xfrm>
            <a:off x="8748720" y="3933720"/>
            <a:ext cx="144360" cy="289080"/>
          </a:xfrm>
          <a:prstGeom prst="upArrow">
            <a:avLst>
              <a:gd name="adj1" fmla="val 50000"/>
              <a:gd name="adj2" fmla="val 50062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AutoShape 1109"/>
          <p:cNvSpPr/>
          <p:nvPr/>
        </p:nvSpPr>
        <p:spPr>
          <a:xfrm>
            <a:off x="8748720" y="4581360"/>
            <a:ext cx="144360" cy="289080"/>
          </a:xfrm>
          <a:prstGeom prst="upArrow">
            <a:avLst>
              <a:gd name="adj1" fmla="val 50000"/>
              <a:gd name="adj2" fmla="val 50062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AutoShape 1111"/>
          <p:cNvSpPr/>
          <p:nvPr/>
        </p:nvSpPr>
        <p:spPr>
          <a:xfrm>
            <a:off x="6659640" y="4508640"/>
            <a:ext cx="144360" cy="360360"/>
          </a:xfrm>
          <a:prstGeom prst="downArrow">
            <a:avLst>
              <a:gd name="adj1" fmla="val 50000"/>
              <a:gd name="adj2" fmla="val 6240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272880"/>
            <a:ext cx="9144000" cy="77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eaeaea"/>
                </a:solidFill>
                <a:latin typeface="Bookman Old Style"/>
              </a:rPr>
              <a:t>Сведения по НИР за 2010 год </a:t>
            </a:r>
            <a:r>
              <a:rPr b="1" lang="ru-RU" sz="2200" spc="-1" strike="noStrike">
                <a:solidFill>
                  <a:srgbClr val="ff3300"/>
                </a:solidFill>
                <a:latin typeface="Bookman Old Style"/>
              </a:rPr>
              <a:t>(по факультетам РГГМУ)</a:t>
            </a:r>
            <a:endParaRPr b="0" lang="en-US" sz="2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468360" y="1052640"/>
          <a:ext cx="8424720" cy="5175000"/>
        </p:xfrm>
        <a:graphic>
          <a:graphicData uri="http://schemas.openxmlformats.org/drawingml/2006/table">
            <a:tbl>
              <a:tblPr/>
              <a:tblGrid>
                <a:gridCol w="1441440"/>
                <a:gridCol w="287280"/>
                <a:gridCol w="720720"/>
                <a:gridCol w="289080"/>
                <a:gridCol w="647640"/>
                <a:gridCol w="287280"/>
                <a:gridCol w="574560"/>
                <a:gridCol w="289080"/>
                <a:gridCol w="684000"/>
                <a:gridCol w="179640"/>
                <a:gridCol w="649080"/>
                <a:gridCol w="287280"/>
                <a:gridCol w="646200"/>
                <a:gridCol w="505080"/>
                <a:gridCol w="936360"/>
              </a:tblGrid>
              <a:tr h="863280">
                <a:tc rowSpan="2">
                  <a:txBody>
                    <a:bodyPr lIns="36000" rIns="36000" tIns="540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Факультет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Министерство образования и науки Российской Федерации 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Региональные программы (Санкт-Петербург)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РФФИ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Хоз. договорные НИР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Другие минист-ва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Междун.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проекты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Объем, тыс. руб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Метеорологический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20 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3 981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320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285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50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491,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6 227,7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Гидрологический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9 675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9 975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кеанологический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5</a:t>
                      </a: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2930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220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500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956,9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000</a:t>
                      </a: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2628,8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65 884,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Экологии и физики природной среды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5 352,7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682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2 500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8 535,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Экономических и соц.-гуман. наук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570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600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 170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НИС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7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23 351,3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3864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430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7 000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40221.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6324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В т.ч.:   Морской институт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380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80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ГЭИ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6 579,7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 056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7 435,7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9624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69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05861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5 786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785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536,9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9500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120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12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142004,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hecker dir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15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50560" y="272520"/>
            <a:ext cx="8569080" cy="924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Bookman Old Style"/>
              </a:rPr>
              <a:t>Сведения о НИР </a:t>
            </a:r>
            <a:r>
              <a:rPr b="1" lang="ru-RU" sz="2400" spc="-1" strike="noStrike">
                <a:solidFill>
                  <a:srgbClr val="ff3300"/>
                </a:solidFill>
                <a:latin typeface="Bookman Old Style"/>
              </a:rPr>
              <a:t>по кафедрам / подразделениям РГГМУ</a:t>
            </a:r>
            <a:r>
              <a:rPr b="1" lang="ru-RU" sz="2400" spc="-1" strike="noStrike">
                <a:solidFill>
                  <a:srgbClr val="ccecff"/>
                </a:solidFill>
                <a:latin typeface="Bookman Old Style"/>
              </a:rPr>
              <a:t> в 2010 году (часть 1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179280" y="1700280"/>
          <a:ext cx="8785440" cy="4674960"/>
        </p:xfrm>
        <a:graphic>
          <a:graphicData uri="http://schemas.openxmlformats.org/drawingml/2006/table">
            <a:tbl>
              <a:tblPr/>
              <a:tblGrid>
                <a:gridCol w="2448000"/>
                <a:gridCol w="3097080"/>
                <a:gridCol w="1368720"/>
                <a:gridCol w="1871640"/>
              </a:tblGrid>
              <a:tr h="32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Факультет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Кафедра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Кол-во тем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Объем, тыс. руб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2040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Метеорологический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ДАКЗ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00,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22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Метеорологических прогнозов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2 212,7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2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ЭФА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 165,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2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МКОА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 750,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2076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Океанологический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Океанологи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 751,9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КУПЗ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0</a:t>
                      </a: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950,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2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ПО и ОПВ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</a:t>
                      </a:r>
                      <a:r>
                        <a:rPr b="1" lang="en-US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7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4</a:t>
                      </a: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7 411,8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2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ЮНЕСКО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4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 019,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2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МИТ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 751,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20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Гидрологический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Гидрофизики и гидропрогнозов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 135,8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2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Гидрологии суш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 569,7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2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Гидрометри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870,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18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Геодезии и гидрогеологи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400,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09:09:37Z</dcterms:created>
  <dc:creator>NIS-1</dc:creator>
  <dc:description/>
  <dc:language>en-US</dc:language>
  <cp:lastModifiedBy>Васильев Роман</cp:lastModifiedBy>
  <dcterms:modified xsi:type="dcterms:W3CDTF">2011-01-26T14:45:04Z</dcterms:modified>
  <cp:revision>487</cp:revision>
  <dc:subject/>
  <dc:title>Итоговая сессия Ученого совета РГГМУ</dc:title>
</cp:coreProperties>
</file>